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714-320D-4915-B6C0-0BD765C2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CDE-ECB0-4245-B8B3-E457C5A5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BF08-77B5-4723-9352-5DC32A97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74A-0254-4B1E-BA2E-9C7B3FD7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C5F-9E87-48B5-85FA-182A8F79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5EA-61C8-40A9-AB67-4823BF0F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884-8F32-4505-9D41-C4A0549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172-D0C4-4A64-A091-303B29C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B54-7D52-47A0-825E-5C6275D2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ACF-CCBA-47B5-BE84-919BE8D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582-B880-410A-B0D4-E0569114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BFD-4677-45AA-A334-E21780B4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F50-1135-4F11-BC62-42C0A0918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404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66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cole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299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56360" y="544500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 naran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24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i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16360" y="4221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i m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2360" y="2924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34136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27640" y="333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rna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4869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m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1413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213372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 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620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 pelo marr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198900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r la tel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551664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n el jar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16720" y="9079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t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0000" y="371628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41497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609300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321300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33577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ua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30T12:23:37Z</dcterms:created>
  <dc:creator>Katy Oliver</dc:creator>
  <dc:description/>
  <dc:language>en-US</dc:language>
  <cp:lastModifiedBy>Katy Oliver</cp:lastModifiedBy>
  <dcterms:modified xsi:type="dcterms:W3CDTF">2011-06-30T12:24:06Z</dcterms:modified>
  <cp:revision>1</cp:revision>
  <dc:subject/>
  <dc:title>Slide 1</dc:title>
</cp:coreProperties>
</file>